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rcRect l="0" t="814" r="0" b="0"/>
          <a:stretch/>
        </p:blipFill>
        <p:spPr>
          <a:xfrm>
            <a:off x="7648560" y="276120"/>
            <a:ext cx="1368360" cy="482760"/>
          </a:xfrm>
          <a:prstGeom prst="rect">
            <a:avLst/>
          </a:prstGeom>
          <a:ln w="0">
            <a:noFill/>
          </a:ln>
        </p:spPr>
      </p:pic>
      <p:sp>
        <p:nvSpPr>
          <p:cNvPr id="1" name="Text Box 2"/>
          <p:cNvSpPr/>
          <p:nvPr/>
        </p:nvSpPr>
        <p:spPr>
          <a:xfrm>
            <a:off x="8540640" y="6543720"/>
            <a:ext cx="695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AA81F75-CACB-41BE-B752-D5E1DFE6BB90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3"/>
          <a:srcRect l="0" t="89542" r="0" b="0"/>
          <a:stretch/>
        </p:blipFill>
        <p:spPr>
          <a:xfrm>
            <a:off x="0" y="6813720"/>
            <a:ext cx="9140760" cy="69840"/>
          </a:xfrm>
          <a:prstGeom prst="rect">
            <a:avLst/>
          </a:prstGeom>
          <a:ln w="0">
            <a:noFill/>
          </a:ln>
        </p:spPr>
      </p:pic>
      <p:grpSp>
        <p:nvGrpSpPr>
          <p:cNvPr id="3" name="Group 4"/>
          <p:cNvGrpSpPr/>
          <p:nvPr/>
        </p:nvGrpSpPr>
        <p:grpSpPr>
          <a:xfrm>
            <a:off x="0" y="0"/>
            <a:ext cx="9142560" cy="861840"/>
            <a:chOff x="0" y="0"/>
            <a:chExt cx="9142560" cy="861840"/>
          </a:xfrm>
        </p:grpSpPr>
        <p:pic>
          <p:nvPicPr>
            <p:cNvPr id="4" name="Picture 5" descr=""/>
            <p:cNvPicPr/>
            <p:nvPr/>
          </p:nvPicPr>
          <p:blipFill>
            <a:blip r:embed="rId4"/>
            <a:stretch/>
          </p:blipFill>
          <p:spPr>
            <a:xfrm>
              <a:off x="0" y="6480"/>
              <a:ext cx="9142560" cy="85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Picture 6" descr=""/>
            <p:cNvPicPr/>
            <p:nvPr/>
          </p:nvPicPr>
          <p:blipFill>
            <a:blip r:embed="rId5"/>
            <a:srcRect l="62224" t="0" r="15728" b="0"/>
            <a:stretch/>
          </p:blipFill>
          <p:spPr>
            <a:xfrm>
              <a:off x="7128000" y="0"/>
              <a:ext cx="2014560" cy="8557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1"/>
          <p:cNvSpPr/>
          <p:nvPr/>
        </p:nvSpPr>
        <p:spPr>
          <a:xfrm>
            <a:off x="1447920" y="4530600"/>
            <a:ext cx="63244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395280" y="981000"/>
            <a:ext cx="813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pt-BR" sz="3200" spc="-1" strike="noStrike">
                <a:solidFill>
                  <a:srgbClr val="008080"/>
                </a:solidFill>
                <a:latin typeface="Arial"/>
              </a:rPr>
              <a:t>Ministério da Previdência Soc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pt-BR" sz="2400" spc="-1" strike="noStrike">
                <a:solidFill>
                  <a:srgbClr val="008080"/>
                </a:solidFill>
                <a:latin typeface="Arial"/>
              </a:rPr>
              <a:t>Secretaria de Políticas de Previdência Social - SP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755640" y="2781360"/>
            <a:ext cx="777564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pt-BR" sz="4400" spc="-1" strike="noStrike">
                <a:solidFill>
                  <a:srgbClr val="000080"/>
                </a:solidFill>
                <a:latin typeface="Arial"/>
              </a:rPr>
              <a:t>Os Conselhos de Previdência Soci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755640" y="5587920"/>
            <a:ext cx="7543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pt-BR" sz="2800" spc="-1" strike="noStrike">
                <a:solidFill>
                  <a:srgbClr val="008080"/>
                </a:solidFill>
                <a:latin typeface="Arial"/>
              </a:rPr>
              <a:t>Maio - 20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135" descr="mps-cabecalho"/>
          <p:cNvPicPr/>
          <p:nvPr/>
        </p:nvPicPr>
        <p:blipFill>
          <a:blip r:embed="rId1"/>
          <a:stretch/>
        </p:blipFill>
        <p:spPr>
          <a:xfrm>
            <a:off x="679320" y="31070520"/>
            <a:ext cx="1362240" cy="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"/>
          <p:cNvGraphicFramePr/>
          <p:nvPr/>
        </p:nvGraphicFramePr>
        <p:xfrm>
          <a:off x="457200" y="1484280"/>
          <a:ext cx="8229600" cy="4608720"/>
        </p:xfrm>
        <a:graphic>
          <a:graphicData uri="http://schemas.openxmlformats.org/drawingml/2006/table">
            <a:tbl>
              <a:tblPr/>
              <a:tblGrid>
                <a:gridCol w="1336680"/>
                <a:gridCol w="600120"/>
                <a:gridCol w="438120"/>
                <a:gridCol w="412560"/>
                <a:gridCol w="412920"/>
                <a:gridCol w="412920"/>
                <a:gridCol w="414000"/>
                <a:gridCol w="412920"/>
                <a:gridCol w="412920"/>
                <a:gridCol w="412560"/>
                <a:gridCol w="412920"/>
                <a:gridCol w="412560"/>
                <a:gridCol w="412920"/>
                <a:gridCol w="414360"/>
                <a:gridCol w="412560"/>
                <a:gridCol w="898560"/>
              </a:tblGrid>
              <a:tr h="460440">
                <a:tc gridSpan="16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erintendência Regional Norte / Centro Oes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760"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ência Executiv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 Instalaçã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gridSpan="13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úmero de Reuniões por an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ltima Reuniã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99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2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apólis / G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/02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lho/20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509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lém / P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/06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/20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52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a Vista / RR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/04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52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po Grande / M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/07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/20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52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iabá / MT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/06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509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trito Federal / DF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/08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verei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52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urados / M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/07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u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52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iânia / G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/08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u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509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capá / A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/02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52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naus / AM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/07/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52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lmas / T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/08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/20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527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rto Velho / R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/06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ho/20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505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o Branco / AC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/08/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/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527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: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5"/>
          <p:cNvSpPr/>
          <p:nvPr/>
        </p:nvSpPr>
        <p:spPr>
          <a:xfrm>
            <a:off x="611280" y="2421000"/>
            <a:ext cx="799308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3600" spc="-1" strike="noStrike">
                <a:solidFill>
                  <a:srgbClr val="000080"/>
                </a:solidFill>
                <a:latin typeface="Arial"/>
              </a:rPr>
              <a:t>SITUAÇÃO REGION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611280" y="1123920"/>
          <a:ext cx="8064360" cy="5514840"/>
        </p:xfrm>
        <a:graphic>
          <a:graphicData uri="http://schemas.openxmlformats.org/drawingml/2006/table">
            <a:tbl>
              <a:tblPr/>
              <a:tblGrid>
                <a:gridCol w="2109600"/>
                <a:gridCol w="2789280"/>
                <a:gridCol w="3165480"/>
              </a:tblGrid>
              <a:tr h="27792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ERINTENDÊNC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IV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ATIV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220680"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egional Sudeste I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75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raçatuba, Bauru, Campinas, Jundiaí, Marília, Piracicaba, Ribeirão Preto, Santo André, Santos, São José dos Campos, São Paulo, Sorocaba, Taubaté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raraquara, Guarulhos, Osasco, Presidente Prudente, São Bernardo do Campo, São João da Boa Vista, São José do Rio Pret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245880"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egional Sudeste II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757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elo Horizonte, Contagem, Diamantina, Governador Valadares, Niterói, Ouro Preto,  Rio de Janeiro, Teófilo Otoni, Varginha, Vitóri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arbacena, Campos dos Goytacazes, Divinópolis, Duque de Caxias, Juiz de Fora, Montes Claros, Petrópolis, Poços de Caldas, Uberaba, Uberlândia, Volta Redond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64960"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egional Sul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101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lumenau, Canoas, Cascavel, Caxias do Sul, Chapecó, Criciúma, Curitiba, Florianópolis, Ijuí, Joinville, Maringá, Novo Hamburgo, Pelotas, Ponta Grossa, Porto Alegre, Santa Maria, Uruguaiana, Passo Fund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ondrin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252360"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egional Nordest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66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66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66ff"/>
                    </a:solidFill>
                  </a:tcPr>
                </a:tc>
              </a:tr>
              <a:tr h="757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ampina Grande, Garanhus, Itabuna,  João Pessoa, Juazeiro, Juazeiro do Norte, Maceió, Petrolin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66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racaju, Barreiras, Caruaru, Feira de Santana, Fortaleza, Imperatriz, Mossoró, Natal,  Recife, Santo Antônio de Jesus, São Luís, Salvador, Sobral, Teresina, Vitória da Conquist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66ff"/>
                    </a:solidFill>
                  </a:tcPr>
                </a:tc>
              </a:tr>
              <a:tr h="271440"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egional Norte/Centro-Oest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20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istrito Federal, Dourados, Goiânia, Manau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nápolis, Belém, Boa Vista, Campo Grande, Cuiabá, Macapá, Palmas, Porto Velho, Rio Branco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7936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5"/>
          <p:cNvSpPr/>
          <p:nvPr/>
        </p:nvSpPr>
        <p:spPr>
          <a:xfrm>
            <a:off x="611280" y="2421000"/>
            <a:ext cx="799308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3600" spc="-1" strike="noStrike">
                <a:solidFill>
                  <a:srgbClr val="000080"/>
                </a:solidFill>
                <a:latin typeface="Arial"/>
              </a:rPr>
              <a:t>RESUMO GER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755640" y="1341360"/>
          <a:ext cx="7848720" cy="3959280"/>
        </p:xfrm>
        <a:graphic>
          <a:graphicData uri="http://schemas.openxmlformats.org/drawingml/2006/table">
            <a:tbl>
              <a:tblPr/>
              <a:tblGrid>
                <a:gridCol w="3032280"/>
                <a:gridCol w="2374920"/>
                <a:gridCol w="2441520"/>
              </a:tblGrid>
              <a:tr h="6033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ERINTENDÊNC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1e1">
                        <a:alpha val="33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IV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>
                        <a:alpha val="32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ATIV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0000">
                        <a:alpha val="62000"/>
                      </a:srgbClr>
                    </a:solidFill>
                  </a:tcPr>
                </a:tc>
              </a:tr>
              <a:tr h="558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ional Sudeste 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1e1">
                        <a:alpha val="33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>
                        <a:alpha val="32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0000">
                        <a:alpha val="62000"/>
                      </a:srgbClr>
                    </a:solidFill>
                  </a:tcPr>
                </a:tc>
              </a:tr>
              <a:tr h="515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ional Sudeste 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1e1">
                        <a:alpha val="33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>
                        <a:alpha val="32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0000">
                        <a:alpha val="62000"/>
                      </a:srgbClr>
                    </a:solidFill>
                  </a:tcPr>
                </a:tc>
              </a:tr>
              <a:tr h="503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ional Su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1e1">
                        <a:alpha val="33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>
                        <a:alpha val="32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0000">
                        <a:alpha val="62000"/>
                      </a:srgbClr>
                    </a:solidFill>
                  </a:tcPr>
                </a:tc>
              </a:tr>
              <a:tr h="530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ional Nordes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1e1">
                        <a:alpha val="33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>
                        <a:alpha val="32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0000">
                        <a:alpha val="62000"/>
                      </a:srgbClr>
                    </a:solidFill>
                  </a:tcPr>
                </a:tc>
              </a:tr>
              <a:tr h="601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ional Norte/Centro-Oes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1e1">
                        <a:alpha val="33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>
                        <a:alpha val="32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0000">
                        <a:alpha val="62000"/>
                      </a:srgbClr>
                    </a:solidFill>
                  </a:tcPr>
                </a:tc>
              </a:tr>
              <a:tr h="646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1e1">
                        <a:alpha val="33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>
                        <a:alpha val="32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0000">
                        <a:alpha val="62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66" name="CaixaDeTexto 3"/>
          <p:cNvSpPr/>
          <p:nvPr/>
        </p:nvSpPr>
        <p:spPr>
          <a:xfrm>
            <a:off x="755640" y="5497560"/>
            <a:ext cx="784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400" spc="-1" strike="noStrike">
                <a:solidFill>
                  <a:srgbClr val="ff0000"/>
                </a:solidFill>
                <a:latin typeface="Arial"/>
              </a:rPr>
              <a:t>Observação: O Conselho de Volta Redonda, referente à Superintendência Regional Sudeste II, nunca foi instalado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5"/>
          <p:cNvSpPr/>
          <p:nvPr/>
        </p:nvSpPr>
        <p:spPr>
          <a:xfrm>
            <a:off x="611280" y="2421000"/>
            <a:ext cx="799308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3600" spc="-1" strike="noStrike">
                <a:solidFill>
                  <a:srgbClr val="000080"/>
                </a:solidFill>
                <a:latin typeface="Arial"/>
              </a:rPr>
              <a:t>CRONOGRAMA DE REUNIÕES – CPS - 201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57200" y="2205000"/>
          <a:ext cx="8272440" cy="3348000"/>
        </p:xfrm>
        <a:graphic>
          <a:graphicData uri="http://schemas.openxmlformats.org/drawingml/2006/table">
            <a:tbl>
              <a:tblPr/>
              <a:tblGrid>
                <a:gridCol w="1236600"/>
                <a:gridCol w="773280"/>
                <a:gridCol w="620640"/>
                <a:gridCol w="473040"/>
                <a:gridCol w="530280"/>
                <a:gridCol w="541440"/>
                <a:gridCol w="463320"/>
                <a:gridCol w="620640"/>
                <a:gridCol w="695520"/>
                <a:gridCol w="695160"/>
                <a:gridCol w="773280"/>
                <a:gridCol w="849240"/>
              </a:tblGrid>
              <a:tr h="579600">
                <a:tc gridSpan="12"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uperintendência Regional Sudeste 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5280"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erência-Executiv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vereir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h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lh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tembr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ubr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95280"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undiaí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3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95280"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ríli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96720"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iracicab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3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95280"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nto André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0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0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0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0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0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0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0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0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0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0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95280"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mpina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0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0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95280"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nto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ia 2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ia 2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ia 2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ia 3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ia 2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sp>
        <p:nvSpPr>
          <p:cNvPr id="69" name="Rectangle 129"/>
          <p:cNvSpPr/>
          <p:nvPr/>
        </p:nvSpPr>
        <p:spPr>
          <a:xfrm>
            <a:off x="457200" y="27687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468360" y="2492280"/>
          <a:ext cx="8229600" cy="2519280"/>
        </p:xfrm>
        <a:graphic>
          <a:graphicData uri="http://schemas.openxmlformats.org/drawingml/2006/table">
            <a:tbl>
              <a:tblPr/>
              <a:tblGrid>
                <a:gridCol w="1461960"/>
                <a:gridCol w="768600"/>
                <a:gridCol w="558720"/>
                <a:gridCol w="517320"/>
                <a:gridCol w="462240"/>
                <a:gridCol w="537840"/>
                <a:gridCol w="462240"/>
                <a:gridCol w="538200"/>
                <a:gridCol w="691920"/>
                <a:gridCol w="692280"/>
                <a:gridCol w="770040"/>
                <a:gridCol w="768240"/>
              </a:tblGrid>
              <a:tr h="503280">
                <a:tc gridSpan="12">
                  <a:txBody>
                    <a:bodyPr lIns="37800" rIns="3780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uperintendência Regional Sudeste I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4720"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erência-Executiv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vereir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h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lh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tembr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ubr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503280"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overnador Valadare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505080"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iamantin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6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1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3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08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0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502920"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Varginh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ia 1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ia 2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57200" y="1484280"/>
          <a:ext cx="8229600" cy="4989600"/>
        </p:xfrm>
        <a:graphic>
          <a:graphicData uri="http://schemas.openxmlformats.org/drawingml/2006/table">
            <a:tbl>
              <a:tblPr/>
              <a:tblGrid>
                <a:gridCol w="1319040"/>
                <a:gridCol w="774720"/>
                <a:gridCol w="547920"/>
                <a:gridCol w="460440"/>
                <a:gridCol w="541080"/>
                <a:gridCol w="515880"/>
                <a:gridCol w="492120"/>
                <a:gridCol w="554040"/>
                <a:gridCol w="698760"/>
                <a:gridCol w="696960"/>
                <a:gridCol w="853920"/>
                <a:gridCol w="774720"/>
              </a:tblGrid>
              <a:tr h="504720">
                <a:tc gridSpan="12"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uperintendência Regional Su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3320"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erência-Executiv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vereir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h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lh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tembr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ubr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2960"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noa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4760"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sso Fund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0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0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0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2960"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jui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0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0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4760"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nta Gross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0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0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2960"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ringá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0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0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4760"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xias do Su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3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2960"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lorianópoli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4760"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elota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0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0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0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0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2960"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rto Alegr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4760"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Criciúm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ia 2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ia 2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ia 2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ia 2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ia 2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ia 2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ia 3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ia 2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ia 2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2960"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Londrin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ia 2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ia 1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ia 1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ia 1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ia 0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sp>
        <p:nvSpPr>
          <p:cNvPr id="72" name="Rectangle 139"/>
          <p:cNvSpPr/>
          <p:nvPr/>
        </p:nvSpPr>
        <p:spPr>
          <a:xfrm>
            <a:off x="457200" y="2130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457200" y="2421000"/>
          <a:ext cx="8229600" cy="2554200"/>
        </p:xfrm>
        <a:graphic>
          <a:graphicData uri="http://schemas.openxmlformats.org/drawingml/2006/table">
            <a:tbl>
              <a:tblPr/>
              <a:tblGrid>
                <a:gridCol w="1320840"/>
                <a:gridCol w="776160"/>
                <a:gridCol w="558720"/>
                <a:gridCol w="451080"/>
                <a:gridCol w="542880"/>
                <a:gridCol w="542880"/>
                <a:gridCol w="466920"/>
                <a:gridCol w="542880"/>
                <a:gridCol w="698400"/>
                <a:gridCol w="698400"/>
                <a:gridCol w="854280"/>
                <a:gridCol w="776160"/>
              </a:tblGrid>
              <a:tr h="638280">
                <a:tc gridSpan="12"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uperintendência Regional Nordes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720"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erência-Executiv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vereir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h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lh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tembr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ubr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637920"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uazeiro do Nor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0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638280"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Garunhun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ia 0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ia 0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ia 1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ia 1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sp>
        <p:nvSpPr>
          <p:cNvPr id="74" name="Rectangle 1"/>
          <p:cNvSpPr/>
          <p:nvPr/>
        </p:nvSpPr>
        <p:spPr>
          <a:xfrm>
            <a:off x="457200" y="3389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1447920" y="4530600"/>
            <a:ext cx="63244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0" y="836640"/>
            <a:ext cx="8893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80"/>
                </a:solidFill>
                <a:latin typeface="Arial"/>
              </a:rPr>
              <a:t>O que são os Conselhos de Previdência Social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250920" y="1413000"/>
            <a:ext cx="8569080" cy="47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2003, por força do Decreto nº 4.874, de 11 de novembro, foram criados os Conselhos de Previdência Social - CPS, unidades descentralizadas do Conselho Nacional de Previdência Social – CNPS, vinculadas ou funcionando junto às Gerências-Executivas do Instituto Nacional do Seguro Social - INS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ão instâncias colegiadas e têm caráter consultivo e de assessoramento, podendo encaminhar propostas para serem deliberadas no âmbito do CNP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conselhos buscam ampliar o diálogo entre a gerência-executiva do INSS e a sociedade, permitindo que as necessidades específicas de cada localidade no que diz respeito ao debate de políticas públicas e de legislação previdenciárias sejam atendidas de modo mais eficie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5"/>
          <p:cNvSpPr/>
          <p:nvPr/>
        </p:nvSpPr>
        <p:spPr>
          <a:xfrm>
            <a:off x="611280" y="2060640"/>
            <a:ext cx="763272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pt-BR" sz="3600" spc="-1" strike="noStrike">
                <a:solidFill>
                  <a:srgbClr val="3333cc"/>
                </a:solidFill>
                <a:latin typeface="Arial"/>
              </a:rPr>
              <a:t>Muito obrigado</a:t>
            </a:r>
            <a:br>
              <a:rPr sz="3600"/>
            </a:br>
            <a:br>
              <a:rPr sz="3600"/>
            </a:br>
            <a:br>
              <a:rPr sz="2400"/>
            </a:br>
            <a:r>
              <a:rPr b="1" i="1" lang="pt-BR" sz="1800" spc="-1" strike="noStrike">
                <a:solidFill>
                  <a:srgbClr val="3333cc"/>
                </a:solidFill>
                <a:latin typeface="Arial"/>
              </a:rPr>
              <a:t>Contatos:</a:t>
            </a:r>
            <a:br>
              <a:rPr sz="1800"/>
            </a:br>
            <a:r>
              <a:rPr b="1" i="1" lang="pt-BR" sz="1800" spc="-1" strike="noStrike">
                <a:solidFill>
                  <a:srgbClr val="3333cc"/>
                </a:solidFill>
                <a:latin typeface="Arial"/>
              </a:rPr>
              <a:t>Esplanada dos Ministérios, Bloco F, 7º Andar, Sala 735</a:t>
            </a:r>
            <a:br>
              <a:rPr sz="1800"/>
            </a:br>
            <a:r>
              <a:rPr b="1" i="1" lang="pt-BR" sz="1800" spc="-1" strike="noStrike">
                <a:solidFill>
                  <a:srgbClr val="3333cc"/>
                </a:solidFill>
                <a:latin typeface="Arial"/>
              </a:rPr>
              <a:t>Brasília, DF - CEP: 70059-900</a:t>
            </a:r>
            <a:br>
              <a:rPr sz="1800"/>
            </a:br>
            <a:r>
              <a:rPr b="1" i="1" lang="pt-BR" sz="1800" spc="-1" strike="noStrike">
                <a:solidFill>
                  <a:srgbClr val="3333cc"/>
                </a:solidFill>
                <a:latin typeface="Arial"/>
              </a:rPr>
              <a:t>E-mail: cnps@previdencia.gov.br</a:t>
            </a:r>
            <a:br>
              <a:rPr sz="1800"/>
            </a:br>
            <a:r>
              <a:rPr b="1" i="1" lang="pt-BR" sz="1800" spc="-1" strike="noStrike">
                <a:solidFill>
                  <a:srgbClr val="3333cc"/>
                </a:solidFill>
                <a:latin typeface="Arial"/>
              </a:rPr>
              <a:t>Fone: (61) 2021-5164/5301</a:t>
            </a:r>
            <a:br>
              <a:rPr sz="1800"/>
            </a:br>
            <a:r>
              <a:rPr b="1" i="1" lang="pt-BR" sz="1800" spc="-1" strike="noStrike">
                <a:solidFill>
                  <a:srgbClr val="3333cc"/>
                </a:solidFill>
                <a:latin typeface="Arial"/>
              </a:rPr>
              <a:t>Fax: (61) 2021-5345</a:t>
            </a:r>
            <a:r>
              <a:rPr b="1" i="1" lang="pt-BR" sz="2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6"/>
          <p:cNvSpPr/>
          <p:nvPr/>
        </p:nvSpPr>
        <p:spPr>
          <a:xfrm>
            <a:off x="108000" y="981000"/>
            <a:ext cx="885672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s CPS são compostos por 10 conselheiros, sendo 2 representantes dos trabalhadores, 2 dos empregadores, 2 dos aposentados e pensionistas e 4 do Governo, os quais se reúnem ao menos uma vez por bimest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da representante tem como principal atribuição identificar características da Previdência que possam ser aperfeiçoadas; fazer propostas para melhorar a gestão do sistema previdenciário; facilitar o desenvolvimento e solidificação da gestão democrática e próxima dos cidadãos, além de exercer o controle social sobre a administração pública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6"/>
          <p:cNvSpPr/>
          <p:nvPr/>
        </p:nvSpPr>
        <p:spPr>
          <a:xfrm>
            <a:off x="108000" y="981000"/>
            <a:ext cx="885672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atual regimento interno dos CPS foi aprovado pela Resolução nº 1.304 de 10 de dezembro de 2008 do CNP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250920" y="1871640"/>
            <a:ext cx="842472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5"/>
          <p:cNvSpPr/>
          <p:nvPr/>
        </p:nvSpPr>
        <p:spPr>
          <a:xfrm>
            <a:off x="611280" y="2421000"/>
            <a:ext cx="799308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3600" spc="-1" strike="noStrike">
                <a:solidFill>
                  <a:srgbClr val="000080"/>
                </a:solidFill>
                <a:latin typeface="Arial"/>
              </a:rPr>
              <a:t>QUADRO DE REUNIÕES – C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3600" spc="-1" strike="noStrike">
                <a:solidFill>
                  <a:srgbClr val="000080"/>
                </a:solidFill>
                <a:latin typeface="Arial"/>
              </a:rPr>
              <a:t>2004 - 201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457200" y="1125360"/>
          <a:ext cx="8435880" cy="5256360"/>
        </p:xfrm>
        <a:graphic>
          <a:graphicData uri="http://schemas.openxmlformats.org/drawingml/2006/table">
            <a:tbl>
              <a:tblPr/>
              <a:tblGrid>
                <a:gridCol w="1370160"/>
                <a:gridCol w="615960"/>
                <a:gridCol w="447480"/>
                <a:gridCol w="424080"/>
                <a:gridCol w="423720"/>
                <a:gridCol w="422280"/>
                <a:gridCol w="423720"/>
                <a:gridCol w="424080"/>
                <a:gridCol w="422280"/>
                <a:gridCol w="423720"/>
                <a:gridCol w="423720"/>
                <a:gridCol w="424080"/>
                <a:gridCol w="422280"/>
                <a:gridCol w="423720"/>
                <a:gridCol w="424080"/>
                <a:gridCol w="920520"/>
              </a:tblGrid>
              <a:tr h="295560">
                <a:tc gridSpan="16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erintendência Regional Sudeste 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3280"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ência Executiv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 Instalaçã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gridSpan="13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úmero de Reuniões por an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ltima Reuniã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3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42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açatuba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/09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45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araquara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/07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42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uru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/06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42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pinas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/10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27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uarulhos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/06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vereiro/20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45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diaí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/10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ei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42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ília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/05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42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asco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/02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ho/20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45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iracicaba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/10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24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idente Prudente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/04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45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beirão Preto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/05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t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42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to Andre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/06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42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tos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/05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27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ão Bernardo do Campo/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/11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ho/20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45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ão João da Boa Vista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/08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/20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42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ão José do Rio Preto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/05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ho/20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42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ão José dos Campos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/02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45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ão Paulo/Lest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/04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24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rocaba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/05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45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ubaté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/10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42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: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457200" y="1197000"/>
          <a:ext cx="8435880" cy="5256360"/>
        </p:xfrm>
        <a:graphic>
          <a:graphicData uri="http://schemas.openxmlformats.org/drawingml/2006/table">
            <a:tbl>
              <a:tblPr/>
              <a:tblGrid>
                <a:gridCol w="1370160"/>
                <a:gridCol w="615960"/>
                <a:gridCol w="447480"/>
                <a:gridCol w="424080"/>
                <a:gridCol w="423720"/>
                <a:gridCol w="422280"/>
                <a:gridCol w="423720"/>
                <a:gridCol w="424080"/>
                <a:gridCol w="422280"/>
                <a:gridCol w="423720"/>
                <a:gridCol w="423720"/>
                <a:gridCol w="424080"/>
                <a:gridCol w="422280"/>
                <a:gridCol w="423720"/>
                <a:gridCol w="424080"/>
                <a:gridCol w="920520"/>
              </a:tblGrid>
              <a:tr h="285840">
                <a:tc gridSpan="16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erintendência Regional Sudeste I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7720"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ência Executiv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 Instalaçã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gridSpan="13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úmero de Reuniões por an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ltima Reuniã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06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628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rbacena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/04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0808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lo Horizonte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/02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0628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pos dos Goytacazes/RJ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/05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/20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077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agem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3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0664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mantina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/05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verei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077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inópolis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/03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0664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que de Caxias / RJ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/03/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lho/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077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vernador Valadares/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/06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0664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iz de Fora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6/12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077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ntes Claros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05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/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0664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terói / RJ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/06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0628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ro Preto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/04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0808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rópolis / RJ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/05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0628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ços de Caldas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/04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tembro/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077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o de Janeiro / RJ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05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verei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0664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ófilo Otoni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06/1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077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beraba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/04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0664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berlândia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/03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077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ginha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6/04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0664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tória / E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/09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u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077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lta Redonda / RJ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ão Instalado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ão Instalado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0664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: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57200" y="1123920"/>
          <a:ext cx="8435880" cy="5400720"/>
        </p:xfrm>
        <a:graphic>
          <a:graphicData uri="http://schemas.openxmlformats.org/drawingml/2006/table">
            <a:tbl>
              <a:tblPr/>
              <a:tblGrid>
                <a:gridCol w="1370160"/>
                <a:gridCol w="615960"/>
                <a:gridCol w="447480"/>
                <a:gridCol w="424080"/>
                <a:gridCol w="423720"/>
                <a:gridCol w="422280"/>
                <a:gridCol w="423720"/>
                <a:gridCol w="424080"/>
                <a:gridCol w="422280"/>
                <a:gridCol w="423720"/>
                <a:gridCol w="423720"/>
                <a:gridCol w="424080"/>
                <a:gridCol w="422280"/>
                <a:gridCol w="423720"/>
                <a:gridCol w="424080"/>
                <a:gridCol w="920520"/>
              </a:tblGrid>
              <a:tr h="343080">
                <a:tc gridSpan="16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erintendência Regional Su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0040"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ência Executiv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 Instalaçã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gridSpan="13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úmero de Reuniões por an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ltima Reuniã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3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04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lumenau / SC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/05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286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as / R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/05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3004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cavel / PR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/08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304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xias do Sul / R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/08/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t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3004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pecó / SC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/06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verei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3004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iciúma / SC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/06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286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ritiba / PR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/05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u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304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lorianópolis / SC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/06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3004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juí / R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/10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304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inville / SC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/05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t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3004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ndrina / PR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/06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/20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304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ingá / PR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/08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h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286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o Hamburgo / R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/08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3004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so Fundo / R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/12/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3004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lotas / R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/11/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304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nta Grossa / PR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/08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3004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rto Alegre / R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/08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286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ta Maria / R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/10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t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304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uguaiana / R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6/11/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3004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: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135" descr="mps-cabecalho"/>
          <p:cNvPicPr/>
          <p:nvPr/>
        </p:nvPicPr>
        <p:blipFill>
          <a:blip r:embed="rId1"/>
          <a:stretch/>
        </p:blipFill>
        <p:spPr>
          <a:xfrm>
            <a:off x="644400" y="30870360"/>
            <a:ext cx="1362240" cy="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35" descr="mps-cabecalho"/>
          <p:cNvPicPr/>
          <p:nvPr/>
        </p:nvPicPr>
        <p:blipFill>
          <a:blip r:embed="rId2"/>
          <a:stretch/>
        </p:blipFill>
        <p:spPr>
          <a:xfrm>
            <a:off x="644400" y="31241880"/>
            <a:ext cx="1362240" cy="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35" descr="mps-cabecalho"/>
          <p:cNvPicPr/>
          <p:nvPr/>
        </p:nvPicPr>
        <p:blipFill>
          <a:blip r:embed="rId3"/>
          <a:stretch/>
        </p:blipFill>
        <p:spPr>
          <a:xfrm>
            <a:off x="709560" y="31213440"/>
            <a:ext cx="1362240" cy="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457200" y="1182600"/>
          <a:ext cx="8362800" cy="5199120"/>
        </p:xfrm>
        <a:graphic>
          <a:graphicData uri="http://schemas.openxmlformats.org/drawingml/2006/table">
            <a:tbl>
              <a:tblPr/>
              <a:tblGrid>
                <a:gridCol w="1357200"/>
                <a:gridCol w="611280"/>
                <a:gridCol w="444600"/>
                <a:gridCol w="420480"/>
                <a:gridCol w="419400"/>
                <a:gridCol w="419040"/>
                <a:gridCol w="420480"/>
                <a:gridCol w="419040"/>
                <a:gridCol w="419400"/>
                <a:gridCol w="420480"/>
                <a:gridCol w="419040"/>
                <a:gridCol w="419400"/>
                <a:gridCol w="420480"/>
                <a:gridCol w="419040"/>
                <a:gridCol w="420840"/>
                <a:gridCol w="912600"/>
              </a:tblGrid>
              <a:tr h="301680">
                <a:tc gridSpan="16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erintendência Regional Nordes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9000"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ência Executiv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 Instalaçã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gridSpan="13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úmero de Reuniões por an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ltima Reuniã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8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720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acaju / S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/08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8900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rreiras / B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/07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8864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pina Grande / PB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6/04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8756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uaru / P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6/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m Registr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8900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ira de Santana / B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/12/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ubro/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8720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rtaleza / C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/04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8900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ranhuns / P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6/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u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8864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abuna / B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/12/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u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8756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mperatriz / M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/12/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/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8900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ão Pessoa / PB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/05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8864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azeiro / B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03/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8756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azeiro do Norte / C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/09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8864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ceió / AL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/07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8900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ssoró / RN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/11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8756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tal / RN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/09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/20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8864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rolina / P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9/11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8900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cife / P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/05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m Registr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8720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vador / B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/03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/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8900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to Antonio de Jesus / B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/10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/20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8720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ão Luís / M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/07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/20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8900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bral / C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/05/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8900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resina / PI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/01/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8720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tória da Conquista / B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/07/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89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: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abrina Dias de Araujo Mendonca - MPS</cp:lastModifiedBy>
  <cp:lastPrinted>2015-03-12T22:39:06Z</cp:lastPrinted>
  <dcterms:modified xsi:type="dcterms:W3CDTF">2015-05-20T12:40:11Z</dcterms:modified>
  <cp:revision>178</cp:revision>
  <dc:subject/>
  <dc:title>Slide 1</dc:title>
</cp:coreProperties>
</file>